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B9A-F653-457B-814B-1273E850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F36-0A84-40B7-A8E4-D52B75A4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B4F-0D34-4A6D-AC0D-25E2B028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D88-507A-41DC-8BAE-2D11B8BD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9D9-0F91-4850-A0AE-49ADFE79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0B6-7197-49A4-8BF4-44B1AD95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8DE-C892-428A-A524-EA470914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DDE-643D-4457-97AD-8CF6FCB4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E11-A94E-4601-A91C-DE387705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2A3-6821-4274-88AA-C2204C8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C648-CF46-4476-8258-E63105DE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CFA4-745F-4B88-9E24-E15DCE02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3818-1C8F-494C-8BFA-D26B4FB7A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hap 20 cover picture"/>
          <p:cNvPicPr/>
          <p:nvPr/>
        </p:nvPicPr>
        <p:blipFill>
          <a:blip r:embed="rId1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886200" y="1676520"/>
            <a:ext cx="5257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sitioning Patients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hap 20 footboard"/>
          <p:cNvPicPr/>
          <p:nvPr/>
        </p:nvPicPr>
        <p:blipFill>
          <a:blip r:embed="rId1"/>
          <a:srcRect l="7220" t="4819" r="7220" b="4819"/>
          <a:stretch/>
        </p:blipFill>
        <p:spPr>
          <a:xfrm>
            <a:off x="1600200" y="1905120"/>
            <a:ext cx="5862600" cy="4705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28600" y="38088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FOOT IN A NATURAL POSITION TO PREVENT FOOT DROP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PLANTER FLEX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hap 20 foot drop boot"/>
          <p:cNvPicPr/>
          <p:nvPr/>
        </p:nvPicPr>
        <p:blipFill>
          <a:blip r:embed="rId1"/>
          <a:stretch/>
        </p:blipFill>
        <p:spPr>
          <a:xfrm>
            <a:off x="1523880" y="2057400"/>
            <a:ext cx="5486400" cy="4551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33520" y="601560"/>
            <a:ext cx="77724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OT DROP B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PREVENT FOOT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chap 20 hand rolls"/>
          <p:cNvPicPr/>
          <p:nvPr/>
        </p:nvPicPr>
        <p:blipFill>
          <a:blip r:embed="rId1"/>
          <a:srcRect l="0" t="0" r="0" b="3154"/>
          <a:stretch/>
        </p:blipFill>
        <p:spPr>
          <a:xfrm>
            <a:off x="0" y="2652840"/>
            <a:ext cx="9144000" cy="4205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380880" y="457200"/>
            <a:ext cx="82296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AND R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S THE HAND TO FLEX SLIGHTLY AND PREVENTS CONTRACTURES OF THE FI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762120" y="380880"/>
            <a:ext cx="7381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IN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SITIONING AND TURN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80880" y="2057400"/>
            <a:ext cx="815364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PATIENT IS UNABLE TO CHANGE POSITION INDEPENDENTLY , YOU WILL NEED TO ASSIS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NEED TO BE TURNED EVERY TWO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371600" y="228600"/>
            <a:ext cx="61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SIC BODY POSITIO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Picture 4" descr="chap 20 bed positions 3"/>
          <p:cNvPicPr/>
          <p:nvPr/>
        </p:nvPicPr>
        <p:blipFill>
          <a:blip r:embed="rId1"/>
          <a:srcRect l="0" t="2160" r="0" b="0"/>
          <a:stretch/>
        </p:blipFill>
        <p:spPr>
          <a:xfrm>
            <a:off x="609480" y="114300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3809880" y="4952880"/>
            <a:ext cx="13716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ateral 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wler’s position is a semi‑sitting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ine is kept stra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is supported with a small pi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ms are supported with pi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ine (dorsal recumbent) position is the back‑lying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d is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 and shoulders are supported on a pi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and hands are at the si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e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son lies on the abdomen with the head turned to one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ed is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illows are placed under the head, abdomen, and lower le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 are flexed at the elbows with the hands near the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position (side-ly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illow is under the head and n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pper leg, ankle, and thigh are supported with pill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illow is positioned against the person’s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mall pillow is under the upper arm and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hap 20 bed positions 2"/>
          <p:cNvPicPr/>
          <p:nvPr/>
        </p:nvPicPr>
        <p:blipFill>
          <a:blip r:embed="rId1"/>
          <a:srcRect l="50835" t="0" r="0" b="0"/>
          <a:stretch/>
        </p:blipFill>
        <p:spPr>
          <a:xfrm>
            <a:off x="1828800" y="3200400"/>
            <a:ext cx="5257800" cy="325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57200" y="457200"/>
            <a:ext cx="784872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THOPNEIC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LY USED BY PATIENTS WITH RESPIRATORY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EXPAND THE CHEST AND LUNGS TO ALLOW MORE OXYGEN TO 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PERSONS IN B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 the skin when moving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 is the rubbing of one surface against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aring is when the skin sticks to a surface while muscles slide in the direction the body is mo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friction and shear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l the person or use assist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lift sheet (turning sheet), turning pad, large incontinence product, slide board, or slide she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p 20 shearing"/>
          <p:cNvPicPr/>
          <p:nvPr/>
        </p:nvPicPr>
        <p:blipFill>
          <a:blip r:embed="rId1"/>
          <a:srcRect l="7193" t="6348" r="7193" b="6348"/>
          <a:stretch/>
        </p:blipFill>
        <p:spPr>
          <a:xfrm>
            <a:off x="3809880" y="1295280"/>
            <a:ext cx="4791240" cy="510552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>
            <a:off x="2895480" y="457200"/>
            <a:ext cx="296244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EARING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1905120"/>
            <a:ext cx="37339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KIN STICKS TO THE SURFACE BUT THE INTERNAL STRUCTURES ( BONE AND MUSCLE ) SLIDE IN THE DIRECTION THE BODY IS MO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WHEN THE PATIENT SLIDES DOWN IN 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457200" y="228600"/>
            <a:ext cx="805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IMPORTANCE OF ACTIVITY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04920" y="1295280"/>
            <a:ext cx="85341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MUSCLE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BODY FLEX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RESPIRATOR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POOLING OF FLUID IN THE LU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MAINTAIN HEALTHY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EFFECTIV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S DI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VES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hap 20 raise shoulders"/>
          <p:cNvPicPr/>
          <p:nvPr/>
        </p:nvPicPr>
        <p:blipFill>
          <a:blip r:embed="rId1"/>
          <a:stretch/>
        </p:blipFill>
        <p:spPr>
          <a:xfrm>
            <a:off x="762120" y="1887480"/>
            <a:ext cx="7772400" cy="4970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1371600" y="304920"/>
            <a:ext cx="6010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ISING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ATIENT'S SHOULD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hap 20 raise shoulders with 2 assist"/>
          <p:cNvPicPr/>
          <p:nvPr/>
        </p:nvPicPr>
        <p:blipFill>
          <a:blip r:embed="rId1"/>
          <a:stretch/>
        </p:blipFill>
        <p:spPr>
          <a:xfrm>
            <a:off x="1219320" y="1609560"/>
            <a:ext cx="6622920" cy="524844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>
            <a:off x="990720" y="228600"/>
            <a:ext cx="6667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AISING THE SHOULD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ITH TWO HELPER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838080" y="152280"/>
            <a:ext cx="733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A PATIENT TO MOVE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P IN BED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Picture 3" descr="chap 20 pull up in bed"/>
          <p:cNvPicPr/>
          <p:nvPr/>
        </p:nvPicPr>
        <p:blipFill>
          <a:blip r:embed="rId1"/>
          <a:stretch/>
        </p:blipFill>
        <p:spPr>
          <a:xfrm>
            <a:off x="3657600" y="1447920"/>
            <a:ext cx="5486400" cy="5410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0" y="1515960"/>
            <a:ext cx="35812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ATIENT CAN ASSI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 PATIENT GRASP THE HEADBOARD AND BEND HIS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YOUR FOREARMS UNDER HIS SHOULDERS AND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T AT THE COUNT OF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hap 20 pull up in bed trapeze"/>
          <p:cNvPicPr/>
          <p:nvPr/>
        </p:nvPicPr>
        <p:blipFill>
          <a:blip r:embed="rId1"/>
          <a:srcRect l="0" t="0" r="11887" b="0"/>
          <a:stretch/>
        </p:blipFill>
        <p:spPr>
          <a:xfrm>
            <a:off x="4498920" y="838080"/>
            <a:ext cx="4645080" cy="6019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16002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ATIENT HAS A TRAPEZE ON THE BED HAVE THE PATIENT GRASP THE TRAPEZE AND BEND AT THE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7542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VING UP IN 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hap 20 lift sheet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531828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1676520" y="304920"/>
            <a:ext cx="5305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SING A LIFT SHE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1143000"/>
            <a:ext cx="35812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FT SHEET MAKES LIFTING EAS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PREVENT FRICTION AGAINST THE PATIENT’S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TWO WORKERS TO L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ATIENT CAN HELP HAVE HIM BEND HIS K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OR PERSONS WHO CAN NOT HELP WITH THE M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447920" y="380880"/>
            <a:ext cx="6029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VING A PATIENT TO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SIDE OF THE BED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28600" y="18288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SON IS MOVED IN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chap 20 move in segments"/>
          <p:cNvPicPr/>
          <p:nvPr/>
        </p:nvPicPr>
        <p:blipFill>
          <a:blip r:embed="rId1"/>
          <a:stretch/>
        </p:blipFill>
        <p:spPr>
          <a:xfrm>
            <a:off x="1295280" y="2363760"/>
            <a:ext cx="66294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752480" y="304920"/>
            <a:ext cx="5295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RNING A PATI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3" name="Picture 4" descr="chap 20 turn toward you"/>
          <p:cNvPicPr/>
          <p:nvPr/>
        </p:nvPicPr>
        <p:blipFill>
          <a:blip r:embed="rId1"/>
          <a:stretch/>
        </p:blipFill>
        <p:spPr>
          <a:xfrm>
            <a:off x="1676520" y="1074600"/>
            <a:ext cx="556236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hap 20 side lying with pillows"/>
          <p:cNvPicPr/>
          <p:nvPr/>
        </p:nvPicPr>
        <p:blipFill>
          <a:blip r:embed="rId1"/>
          <a:stretch/>
        </p:blipFill>
        <p:spPr>
          <a:xfrm>
            <a:off x="380880" y="2467080"/>
            <a:ext cx="8305920" cy="4390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80880" y="990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POSITIONING FOR LATERAL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2590920" y="380880"/>
            <a:ext cx="3352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OGROLLING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7" name="Picture 3" descr="chap 20 log roll 2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228600" y="1295280"/>
            <a:ext cx="84582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TIENT WHO HAS A SPINAL INJURY OR SPINAL SURGERY MUST BE KEPT IN GOOD BODY ALIGNMENT WHEN TUR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A LIFT SHEET THE PERSON IS TURNED IN ONE MO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TAKES 2 OR 3 PERSONS TO SAFELY LOGROLL  A  PATI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hap 20 dangle"/>
          <p:cNvPicPr/>
          <p:nvPr/>
        </p:nvPicPr>
        <p:blipFill>
          <a:blip r:embed="rId1"/>
          <a:srcRect l="1402" t="1276" r="0" b="0"/>
          <a:stretch/>
        </p:blipFill>
        <p:spPr>
          <a:xfrm>
            <a:off x="0" y="685800"/>
            <a:ext cx="7056360" cy="61722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1219320" y="228600"/>
            <a:ext cx="5933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TO DANGL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086600" y="1592280"/>
            <a:ext cx="182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GLING REFERS TO SITTING ON THE SIDE OF THE BED WITH THE FEET HANG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609480" y="228600"/>
            <a:ext cx="767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MPLICATIONS OF BEDRES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380880" y="11430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VERY BODY SYSTEM IS AFF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chap 20 contracture"/>
          <p:cNvPicPr/>
          <p:nvPr/>
        </p:nvPicPr>
        <p:blipFill>
          <a:blip r:embed="rId1"/>
          <a:stretch/>
        </p:blipFill>
        <p:spPr>
          <a:xfrm>
            <a:off x="228600" y="1957320"/>
            <a:ext cx="3429000" cy="223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hap 20 contracture 2"/>
          <p:cNvPicPr/>
          <p:nvPr/>
        </p:nvPicPr>
        <p:blipFill>
          <a:blip r:embed="rId2"/>
          <a:stretch/>
        </p:blipFill>
        <p:spPr>
          <a:xfrm>
            <a:off x="5638680" y="4390920"/>
            <a:ext cx="3276720" cy="22449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962520" y="2201760"/>
            <a:ext cx="4876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BNORMAL SHORTENING OF THE MUSCLE DUE TO LACK OF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28600" y="472428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57200" y="4343400"/>
            <a:ext cx="4572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SCLE IS FIXED INTO POSITION, IS DEFORMED, AND CANNOT STRE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SON WITH A CONTRACTURE IS PERMANENTLY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hap 20 take vitals while dangle"/>
          <p:cNvPicPr/>
          <p:nvPr/>
        </p:nvPicPr>
        <p:blipFill>
          <a:blip r:embed="rId1"/>
          <a:stretch/>
        </p:blipFill>
        <p:spPr>
          <a:xfrm>
            <a:off x="3657600" y="533520"/>
            <a:ext cx="5262480" cy="5715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0" y="152280"/>
            <a:ext cx="380988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LEAVE THE PATIENT ALONE WHEN DANGL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THE PATIENT COUGH, DEEP BREATHE, AND EXERCISE THEIR LEG MUSCLES WHEN DANG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PATIENT BECOMES DIZZY LIE HIM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28600" y="62485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0" y="6248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PERSON’S PULSE AND RESPI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1219320" y="228600"/>
            <a:ext cx="641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SSISTING THE PATI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O TRANSF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7" name="Picture 3" descr="chap 20 assist to stand"/>
          <p:cNvPicPr/>
          <p:nvPr/>
        </p:nvPicPr>
        <p:blipFill>
          <a:blip r:embed="rId1"/>
          <a:stretch/>
        </p:blipFill>
        <p:spPr>
          <a:xfrm>
            <a:off x="1371600" y="1616040"/>
            <a:ext cx="59436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hap 20 rules for transfer to chair"/>
          <p:cNvPicPr/>
          <p:nvPr/>
        </p:nvPicPr>
        <p:blipFill>
          <a:blip r:embed="rId1"/>
          <a:stretch/>
        </p:blipFill>
        <p:spPr>
          <a:xfrm>
            <a:off x="380880" y="990720"/>
            <a:ext cx="8223480" cy="43434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62120" y="5334120"/>
            <a:ext cx="784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ALLOW THE  PERSON TO  PUT HIS ARMS AROUND YOUR N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YOU LOCK THE WHEELS ON THE BED AND WHEEL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hap 20 bed to wchair"/>
          <p:cNvPicPr/>
          <p:nvPr/>
        </p:nvPicPr>
        <p:blipFill>
          <a:blip r:embed="rId1"/>
          <a:srcRect l="0" t="0" r="0" b="2433"/>
          <a:stretch/>
        </p:blipFill>
        <p:spPr>
          <a:xfrm>
            <a:off x="228600" y="838080"/>
            <a:ext cx="861048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hap 20 gait belt"/>
          <p:cNvPicPr/>
          <p:nvPr/>
        </p:nvPicPr>
        <p:blipFill>
          <a:blip r:embed="rId1"/>
          <a:stretch/>
        </p:blipFill>
        <p:spPr>
          <a:xfrm>
            <a:off x="1447920" y="3124080"/>
            <a:ext cx="6271920" cy="3733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762120" y="15228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ULES FOR GAIT BELT / TRANSFER BELT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838080"/>
            <a:ext cx="8534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Y THE BELT AROUND THE PERSON’S WAIST, OVER THE CLOTH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GHTEN THE BELT SO IT IS SNUG. IT SHOULD NOT CAUSE DISCOMFORT OR IMPAIR BREATHING. YOU SHOULD BE ABLE TO SLIDE YOUR OPEN HAND UNDER THE BE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CE THE BUCKLE SLIGHTLY OFF CENTER IN THE FRO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USE WITH PATIENTS WITH FRACTURED RIBS, ABDOMINAL SURGERY, OR HAVING BREATHING DIFFICUL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hap 20 bed to chair with gait belt"/>
          <p:cNvPicPr/>
          <p:nvPr/>
        </p:nvPicPr>
        <p:blipFill>
          <a:blip r:embed="rId1"/>
          <a:stretch/>
        </p:blipFill>
        <p:spPr>
          <a:xfrm>
            <a:off x="838080" y="100080"/>
            <a:ext cx="7239240" cy="66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ap 20 gait belt in wchair"/>
          <p:cNvPicPr/>
          <p:nvPr/>
        </p:nvPicPr>
        <p:blipFill>
          <a:blip r:embed="rId1"/>
          <a:stretch/>
        </p:blipFill>
        <p:spPr>
          <a:xfrm>
            <a:off x="3048120" y="533520"/>
            <a:ext cx="5502240" cy="6324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28600" y="533520"/>
            <a:ext cx="266688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E POSITION OF THE CNA’S HANDS ON THE GAIT BE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HIS USE OF PROPER BODY MECHA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 THE PLACEMENT OF HIS KNEES AGAINST THE KNEES OF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hap 20 hoyer lift 3"/>
          <p:cNvPicPr/>
          <p:nvPr/>
        </p:nvPicPr>
        <p:blipFill>
          <a:blip r:embed="rId1"/>
          <a:srcRect l="0" t="2356" r="2890" b="0"/>
          <a:stretch/>
        </p:blipFill>
        <p:spPr>
          <a:xfrm>
            <a:off x="4451400" y="1066680"/>
            <a:ext cx="4692600" cy="579132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1828800" y="304920"/>
            <a:ext cx="469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CHANICAL LIF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1523880"/>
            <a:ext cx="41911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YER L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TRANSFER PATIENTS WHO ARE PARALYZED, VERY HEAVY, OR DIFFICULT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AT LEAST 2 STAFF MEMBERS TO SAFELY USE A MECHANICAL L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hap 20 hoyer step 1"/>
          <p:cNvPicPr/>
          <p:nvPr/>
        </p:nvPicPr>
        <p:blipFill>
          <a:blip r:embed="rId1"/>
          <a:srcRect l="0" t="1852" r="0" b="0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hap 20 hoyer step 2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ap 20 hoyer step 3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hap 20 hoyer step 4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75248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R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hap 20 muscle atrophy"/>
          <p:cNvPicPr/>
          <p:nvPr/>
        </p:nvPicPr>
        <p:blipFill>
          <a:blip r:embed="rId1"/>
          <a:stretch/>
        </p:blipFill>
        <p:spPr>
          <a:xfrm>
            <a:off x="5410080" y="1219320"/>
            <a:ext cx="3238560" cy="4946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28600" y="914400"/>
            <a:ext cx="5029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ROPHY – A DECREASE IN SIZE OR A WASTING AWAY OF MUSCLE T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LACK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atrophy"/>
          <p:cNvPicPr/>
          <p:nvPr/>
        </p:nvPicPr>
        <p:blipFill>
          <a:blip r:embed="rId2"/>
          <a:stretch/>
        </p:blipFill>
        <p:spPr>
          <a:xfrm>
            <a:off x="990720" y="2666880"/>
            <a:ext cx="297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hap 20 hoyer lift placement"/>
          <p:cNvPicPr/>
          <p:nvPr/>
        </p:nvPicPr>
        <p:blipFill>
          <a:blip r:embed="rId1"/>
          <a:stretch/>
        </p:blipFill>
        <p:spPr>
          <a:xfrm>
            <a:off x="1598760" y="0"/>
            <a:ext cx="594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lift"/>
          <p:cNvPicPr/>
          <p:nvPr/>
        </p:nvPicPr>
        <p:blipFill>
          <a:blip r:embed="rId1"/>
          <a:stretch/>
        </p:blipFill>
        <p:spPr>
          <a:xfrm>
            <a:off x="3352680" y="0"/>
            <a:ext cx="53596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0" y="449280"/>
            <a:ext cx="33526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FACILITIES HAVE “NO LIFT”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PECIAL LIFT IS USED TO STAND AND MOVE RESIDENTS IF YOUR FACILITY HAS THIS RESTR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hap 20 transfer board"/>
          <p:cNvPicPr/>
          <p:nvPr/>
        </p:nvPicPr>
        <p:blipFill>
          <a:blip r:embed="rId1"/>
          <a:srcRect l="0" t="6579" r="0" b="0"/>
          <a:stretch/>
        </p:blipFill>
        <p:spPr>
          <a:xfrm>
            <a:off x="1447920" y="1523880"/>
            <a:ext cx="5790960" cy="5141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304920" y="22860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LYZED PERSONS USE A TRANSFER BOARD FOR TRANSFER FROM       WHEELCHAIR TO 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WC TOLIET.jpg"/>
          <p:cNvPicPr/>
          <p:nvPr/>
        </p:nvPicPr>
        <p:blipFill>
          <a:blip r:embed="rId1"/>
          <a:stretch/>
        </p:blipFill>
        <p:spPr>
          <a:xfrm>
            <a:off x="2590920" y="0"/>
            <a:ext cx="6557760" cy="58514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52280" y="76212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HEELCHAIR IS PLACED AT A RIGHT ANGLE TO THE TOL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152280"/>
            <a:ext cx="5162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NSFER FROM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ED TO STRETCHE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2" name="Picture 3" descr="chap 20 bed to stretcher"/>
          <p:cNvPicPr/>
          <p:nvPr/>
        </p:nvPicPr>
        <p:blipFill>
          <a:blip r:embed="rId1"/>
          <a:srcRect l="0" t="0" r="11731" b="0"/>
          <a:stretch/>
        </p:blipFill>
        <p:spPr>
          <a:xfrm>
            <a:off x="0" y="1828800"/>
            <a:ext cx="5141880" cy="404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4952880" y="2133720"/>
            <a:ext cx="3886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4 OR MORE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LIFT SHEET OR SLED TO PULL PATIENT OVER ONTO C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hap 20 lift to chair"/>
          <p:cNvPicPr/>
          <p:nvPr/>
        </p:nvPicPr>
        <p:blipFill>
          <a:blip r:embed="rId1"/>
          <a:srcRect l="0" t="3800" r="1436" b="3800"/>
          <a:stretch/>
        </p:blipFill>
        <p:spPr>
          <a:xfrm>
            <a:off x="1295280" y="0"/>
            <a:ext cx="66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chap 20 lift in wchair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28600" y="457200"/>
            <a:ext cx="3352680" cy="59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SITIONING A RESIDENT IN A WHEEL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 THE WHEELS AND MOVE THE FOOTRESTS OUT OF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PULL THE RESIDENT UP BY THE 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INJURY TO THE RESIDENT USE TWO STAFF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hap 20 parts of wchair"/>
          <p:cNvPicPr/>
          <p:nvPr/>
        </p:nvPicPr>
        <p:blipFill>
          <a:blip r:embed="rId1"/>
          <a:srcRect l="3466" t="0" r="3466" b="0"/>
          <a:stretch/>
        </p:blipFill>
        <p:spPr>
          <a:xfrm>
            <a:off x="0" y="609480"/>
            <a:ext cx="5124600" cy="60962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457200" y="304920"/>
            <a:ext cx="8067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FETY MEASURES WITH WHEELCHAIRS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876920" y="1752480"/>
            <a:ext cx="40384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LOCK THE BRAKES WHEN TRANSFE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N THE WHEELCHAIR ON A REGULA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E FOOTRESTS OUT OF THE WAY WHEN TRANSFER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hap 20 cardiac chair"/>
          <p:cNvPicPr/>
          <p:nvPr/>
        </p:nvPicPr>
        <p:blipFill>
          <a:blip r:embed="rId1"/>
          <a:stretch/>
        </p:blipFill>
        <p:spPr>
          <a:xfrm>
            <a:off x="0" y="1295280"/>
            <a:ext cx="4800600" cy="5562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hap 20 geri chair"/>
          <p:cNvPicPr/>
          <p:nvPr/>
        </p:nvPicPr>
        <p:blipFill>
          <a:blip r:embed="rId2"/>
          <a:stretch/>
        </p:blipFill>
        <p:spPr>
          <a:xfrm>
            <a:off x="5207040" y="1295280"/>
            <a:ext cx="3936960" cy="55627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152280" y="6858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AC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4120" y="685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I-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hap 20 down ramp with wchair"/>
          <p:cNvPicPr/>
          <p:nvPr/>
        </p:nvPicPr>
        <p:blipFill>
          <a:blip r:embed="rId1"/>
          <a:srcRect l="0" t="0" r="0" b="9379"/>
          <a:stretch/>
        </p:blipFill>
        <p:spPr>
          <a:xfrm>
            <a:off x="0" y="1816200"/>
            <a:ext cx="4572000" cy="5041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hap 20 elevator with wchair"/>
          <p:cNvPicPr/>
          <p:nvPr/>
        </p:nvPicPr>
        <p:blipFill>
          <a:blip r:embed="rId2"/>
          <a:stretch/>
        </p:blipFill>
        <p:spPr>
          <a:xfrm>
            <a:off x="5029200" y="205740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0" y="4572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DOWN A RAMP WITH A WHEEL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029200" y="3808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INTO THE ELEVATOR SO THE PATIENT FACES THE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295280" y="304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UBITUS UL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decub 2"/>
          <p:cNvPicPr/>
          <p:nvPr/>
        </p:nvPicPr>
        <p:blipFill>
          <a:blip r:embed="rId1"/>
          <a:srcRect l="1953" t="1466" r="1953" b="2931"/>
          <a:stretch/>
        </p:blipFill>
        <p:spPr>
          <a:xfrm>
            <a:off x="1428840" y="2276640"/>
            <a:ext cx="6591240" cy="4297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049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REAKDOWN IN SKIN TISSUE THAT OCCURS WHEN BLOODFLOW TO AN AREA IS INTE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hap 20 ramp with cart"/>
          <p:cNvPicPr/>
          <p:nvPr/>
        </p:nvPicPr>
        <p:blipFill>
          <a:blip r:embed="rId1"/>
          <a:stretch/>
        </p:blipFill>
        <p:spPr>
          <a:xfrm>
            <a:off x="0" y="1285920"/>
            <a:ext cx="4419720" cy="5572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hap 20 elevator with cart"/>
          <p:cNvPicPr/>
          <p:nvPr/>
        </p:nvPicPr>
        <p:blipFill>
          <a:blip r:embed="rId2"/>
          <a:stretch/>
        </p:blipFill>
        <p:spPr>
          <a:xfrm>
            <a:off x="5102280" y="1295280"/>
            <a:ext cx="4041720" cy="5562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0" y="2286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THE PATIENT FEET FIRST DOWN A R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952880" y="304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THE ELEVATOR HEAD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hap 20 rules for stretcher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ecubitus 1"/>
          <p:cNvPicPr/>
          <p:nvPr/>
        </p:nvPicPr>
        <p:blipFill>
          <a:blip r:embed="rId1"/>
          <a:stretch/>
        </p:blipFill>
        <p:spPr>
          <a:xfrm>
            <a:off x="228600" y="816120"/>
            <a:ext cx="4038480" cy="3079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ecubitus 2"/>
          <p:cNvPicPr/>
          <p:nvPr/>
        </p:nvPicPr>
        <p:blipFill>
          <a:blip r:embed="rId2"/>
          <a:stretch/>
        </p:blipFill>
        <p:spPr>
          <a:xfrm>
            <a:off x="5181480" y="838080"/>
            <a:ext cx="3643560" cy="292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ecubitus 3"/>
          <p:cNvPicPr/>
          <p:nvPr/>
        </p:nvPicPr>
        <p:blipFill>
          <a:blip r:embed="rId3"/>
          <a:stretch/>
        </p:blipFill>
        <p:spPr>
          <a:xfrm>
            <a:off x="3276720" y="40384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685800" y="2286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 DECUB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2286000" y="380880"/>
            <a:ext cx="4667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ODY ALIGNM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3" descr="chap 20 body alignment"/>
          <p:cNvPicPr/>
          <p:nvPr/>
        </p:nvPicPr>
        <p:blipFill>
          <a:blip r:embed="rId1"/>
          <a:srcRect l="0" t="2188" r="0" b="0"/>
          <a:stretch/>
        </p:blipFill>
        <p:spPr>
          <a:xfrm>
            <a:off x="2362320" y="2771640"/>
            <a:ext cx="4362480" cy="408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28600" y="15922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UNK OF THE PERSON SHOULD BE IN A STRAIGHT LINE WHEN THE PATIENT IS LYING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hap 20 positioning in chair"/>
          <p:cNvPicPr/>
          <p:nvPr/>
        </p:nvPicPr>
        <p:blipFill>
          <a:blip r:embed="rId1"/>
          <a:stretch/>
        </p:blipFill>
        <p:spPr>
          <a:xfrm>
            <a:off x="3200400" y="1905120"/>
            <a:ext cx="3060720" cy="4578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457200" y="9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 IN A CHAIR SHOULD SIT UP STRA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472428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FEET SHOULD EITHER REST ON THE FLOOR OR ON A S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5943600" y="304812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LOWER BACK SHOULD REST AGAINST THE BACK OF TH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20320" y="2631960"/>
            <a:ext cx="44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CKS OF HIS KN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SLIGHTLY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SEA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33520" y="304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PER POSITIONING IN A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1066680" y="457200"/>
            <a:ext cx="68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STORATIVE EQUIPMEN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D TO HELP THE PATIENT MAINTAIN CORRECT BODY ALIGNMENT AND PREVENT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chap 20 bed cradle"/>
          <p:cNvPicPr/>
          <p:nvPr/>
        </p:nvPicPr>
        <p:blipFill>
          <a:blip r:embed="rId1"/>
          <a:stretch/>
        </p:blipFill>
        <p:spPr>
          <a:xfrm>
            <a:off x="228600" y="2590920"/>
            <a:ext cx="4645080" cy="386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876920" y="2666880"/>
            <a:ext cx="3886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D CRA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S THE WEIGHT OF THE LINENS FROM PRESSING ON THE PATIENT’S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4T12:57:06Z</dcterms:created>
  <dc:creator>NCC</dc:creator>
  <dc:description/>
  <dc:language>en-US</dc:language>
  <cp:lastModifiedBy>Krista</cp:lastModifiedBy>
  <dcterms:modified xsi:type="dcterms:W3CDTF">2011-01-11T06:37:04Z</dcterms:modified>
  <cp:revision>27</cp:revision>
  <dc:subject/>
  <dc:title>PowerPoint Presentation</dc:title>
</cp:coreProperties>
</file>